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7761-343F-4AA0-8B63-F24D9224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B097-E0EB-4BF4-BF39-9D00F99B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841A-0BBE-4E60-9823-741025DB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D322-EB32-46E4-8883-0CCED1F6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D3D3-0A55-454D-BE2C-73EE683B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0590-E1E4-47B1-80F3-57464D1E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D1BC-5E9E-4969-A6B5-36A9454A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FBFD-E18C-45F4-B45B-86C747EA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F32E-6BAE-46A3-BB6A-D01E86F4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7B43-F8A0-41AC-B129-2FE5C8B6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A4F3-A6B4-46AE-A0ED-4910C3F4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70A9-C7C9-4A4F-B757-0F483176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CA65-C7FC-4EF5-9029-7359AC7E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7203-FB5E-4369-A98F-AAE44EFB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A179-BFF2-4B03-B35C-C61FD906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4E3D-E57F-4893-8935-8F09733B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764D-CE82-4C3E-A1F3-4DBEB018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F5A2-6087-4840-ACAA-3A8CD896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12C6-24ED-4842-B597-67FBAE34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9437-81F6-413F-81DE-4692539A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AEE7-6DDB-496D-B8F3-432CF6DB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A1CA-AE04-48CA-B22A-C188405F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B976-0365-4976-A222-39D00CC9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8A7E-819F-41D9-BE89-1DC58954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DB71-F4BB-4DA5-8B8D-31214B38D9C8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4EAC-AF47-496F-898E-FECB81AC5E5A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eilnacht.com/cdrom.htm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066160" y="0"/>
            <a:ext cx="1077840" cy="1800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ccecff"/>
                </a:solidFill>
                <a:uFillTx/>
                <a:latin typeface="Arial"/>
              </a:rPr>
              <a:t>Formaldehyd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ederike Hillerma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ie kann ich es nachweise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er Nachweis erfolgt mit Schiffs Reagen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st ein Aldehyd enthalten, färbt sich die farblose Lösung violet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1557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Bild vergrößern!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3357720"/>
            <a:ext cx="6985080" cy="3500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Inhal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as ist ein Formaldehy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as ist ein Aldehy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elche Eigenschaften hat 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e ist seine Entstehu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e ist seine Verwendu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elche Wirkung hat Formaldehy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e kann es hergestellt werd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238960" y="0"/>
            <a:ext cx="90504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Formaldehy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igentlich Metha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hemische Formel: HCHO oder CH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059280" y="3284640"/>
            <a:ext cx="2304720" cy="19494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8238960" y="0"/>
            <a:ext cx="90504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ccecff"/>
                </a:solidFill>
                <a:uFillTx/>
                <a:latin typeface="Arial"/>
              </a:rPr>
              <a:t>Was ist ein Aldehy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ch den Entzug von zwei Wasserstoffat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s einem primären Alkoh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 der Oxidation von Methanol mit heißem Kupferoxid entsteht zunäch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ne instabile Zwischenverbindung, die dann Wasser abspalt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ldehyd entste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238960" y="0"/>
            <a:ext cx="90504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elche Eigenschaften hat e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b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chend riech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förm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nn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melzpunkt: -92°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edepunkt: -21°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. Molekülmasse: 30,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üchtiges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chte: 0,82g/cm³ (bei -20°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388360" y="0"/>
            <a:ext cx="75564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ie ist seine Entstehung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bbauprodukt in der Nat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odukt einer unvollständigen Verbrenn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ntsteht im Stoffwechselproz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uch in Autoabga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m Tabakra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n den Fotooxidantien des Sommersm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238960" y="0"/>
            <a:ext cx="90504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ie ist seine Verwendung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lfältig eingesetzte Chemikali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leimte Produkte aus Holzwerkstof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ämmstoffe  und Ausschäummaterial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trichstof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s- und Steinwo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smet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üngemit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kam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inigungs-, Pflege. Und Desinfektionsmit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8238960" y="0"/>
            <a:ext cx="90504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Welche Wirkung hat Formaldehyd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izt bereits in geringen Mengen: Augen,     Nase und Atemwe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 verdacht krebserregend zu se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nn zu: Schlaflosigkeit, Hautreizungen, Kopfschmerzen, Allergien, Übelkeit, Asthma, Bronchitis füh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hohen Mengen kann es Lebensgefahr füh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532720" y="0"/>
            <a:ext cx="611280" cy="1270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Wie kann es hergestellt werden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ann mit oxidiertem Kupfer hergestellt wer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aucht man ein oxidiertes Kupferdrahtnetz in ein Reagenzglas mit Methanol wird das Kupferoxid des Drahtnetzes wieder zu Kupfer reduzier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ährend das abgegeben Sauerstoffatom zuerst eine instabile Zwischenverbindung bild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unter Wasserabspaltung entsteht Meth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16574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44560" y="324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44560" y="324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5589720"/>
            <a:ext cx="89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3T06:14:51Z</dcterms:created>
  <dc:creator>P2800</dc:creator>
  <dc:description/>
  <dc:language>en-US</dc:language>
  <cp:lastModifiedBy>a</cp:lastModifiedBy>
  <dcterms:modified xsi:type="dcterms:W3CDTF">2006-03-15T14:18:21Z</dcterms:modified>
  <cp:revision>7</cp:revision>
  <dc:subject/>
  <dc:title>Formaldehyd</dc:title>
</cp:coreProperties>
</file>